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251-85E7-4FB7-A6B3-199F36B5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29D-490E-4153-8647-78295A7C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EA6-35B4-470F-AEB0-0372524C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778-EB64-4355-BCE1-A0DFB0B3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BC979-A4CB-4F19-A894-72204D83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0FB05-B861-44BF-AC8B-8B0BDB23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219A9-281E-412D-AE44-D09DB838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11DE4-7CDB-4F35-83AC-319A6100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5ADD8-8CFA-40DA-A151-B7521376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62DA3-1124-4E60-8993-8DA89FEA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58674-BCE8-4F65-9EE4-962AFD86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A42-695C-4B04-8E89-5D070332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B7464-08D6-4E74-83C3-4618DECC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FF691-B485-4893-96F1-16DDF701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33278-36BE-4BEE-92D7-B298EE7D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A7065-8439-4895-BBCE-94CEFE88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410DB-E75D-4FDF-9FA8-3F9D66AC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6DBB5-A69E-4E67-849F-4E686F68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00384-4DFD-452D-8401-4F1EEC76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A3AFC-E879-4E38-910E-A57AC1B2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D25A1-AAF6-4C5C-899D-47C11C0A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71031-BE1B-4810-885E-7FF1A609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71A-1EBB-4962-95F2-2825F7DC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8F5C2-E0FF-4D67-B39E-C549884B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C7FC-04C1-441A-8CEF-E66429A6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B848D-4CE4-429E-9BE9-9FB6F0F9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39212-768E-4A20-AE3C-42FDB0D4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03723-F33B-4E2C-8EF9-1AC299CD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19BA-10FC-48A0-9EEC-D82210E3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FB998-6A64-45E7-858E-8F33FCD8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49C757-5D64-46E4-9706-191238D5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535013-2E73-495E-9D6B-2826F236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402EC1-BEA3-40B2-A0BF-EEF46737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651-A096-42DA-8DDE-5306D480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59C6B2-B260-422A-A989-0F78979D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B251B-03D9-407A-BA5D-71BA57B7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AAAB8A-5BED-475B-BAC7-14144AF7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55D64B-59C4-416F-82AC-0453FD9D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5A15D-A244-4E91-9C83-51C1F6C3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133026-B1B2-4EF2-8D68-6900AEED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00BF1A-71B2-4426-A8FA-208C31FC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F6B7E-96A3-47F2-AB24-05C7ACEC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ADF89-B18E-44C2-89D2-EF5C4C80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4F2-10BF-47E0-9A4A-28CAD207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AEF-54DA-44F0-A713-FF19CA6C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9B1-556A-46AB-B243-46C39483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191-F1BE-4D81-8FC6-714E9839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949-270B-490B-A000-1E6EE95D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294B-9C88-4327-8D03-C548510C045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CCCD-899A-4440-89B8-0DF0C8C71D3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7F56-4801-4B48-B27E-23978F25A1D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5174-DA82-4001-A965-149FEB5C422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y:Daniel Ki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44600" y="1427040"/>
            <a:ext cx="8327880" cy="1992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Create a timeline of Soviet history under Communist rule, beginning with the October Revolution of 1917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Identify the following people/groups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Karl Marx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Czar Nicolas II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Josef Stalin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Leon Trotsky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Alexander Kerensky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Vladimir Lenin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Gregory Zinoviev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Lev Kaminev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The Proletariat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Pravda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The KGB -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Find a speech by a famous political leader (from any country) and summarize the theme of his/her speech. Include in your analysis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What was the political leader’s message?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What was the nation supposed to do in response to the speech?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Do you agree or disagree with the contentions made in the speech? Why or why not?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Attach a copy of the speech you found. If you found it on a video, you need to find a written transcript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Your summarization needs to be minimum 1 page, typed and double-spaced, maximum 2 pages typed and double-spaced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Karl Marx -He was a German philosopher , radical economist, and a revolutionary leader. He founded modern scientific socialism, which is widely known as Marxism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Czar Nicolas II -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Born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May 19, 1868 in Tsarskoe Selo, Russia ,Died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July 17, 1918 in Yekaterinburg, Russia ,Nationality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Russian, Occupation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Emperor, Nicholas II (1868-1918), the czar of Russia from 1894 to 1917, was a staunch defender of autocracy. A weak monarch, he was forced to abdicate, thus ending more than 300 years of Romanov rule in Russia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Josef Stalin-Josef Stalin was the man too keep in control of world communism for approximitely 30 years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Leon Trotsky -He was considered a Marxist or a scientific Marxist..He was arrested and exiled and he escaped from all two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Alexander Kerensky -he was born in simbersk, a city in the russian empire, born in May 4, 1881; died in New York City on June 11, 1970. Son of Fedor Mikhailovich Kerensky and Nadezhda Alexandrovna Adler Kerenskaya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Vladimir Lenin -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Born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April 10, 1870 in Ulyanovsk, Russia Died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January 21, 1924 in Moscow, Soviet Union Nationality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Soviet, Occupation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Head of state, Vladimir I. Lenin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Gregory Zinoviev -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Lev Kamenev -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The Proletariat -in Marxian idealism, the class of  workers and wage earners who depend on the sale of their labor for their existence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Pravda –This was a source of newspaper articles and the most reliable type of trusted news that Vladimir Lenin made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The KGB –This was the first secret police force of the revolution of 1917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6:39:48Z</dcterms:created>
  <dc:creator>200177415</dc:creator>
  <dc:description/>
  <dc:language>en-US</dc:language>
  <cp:lastModifiedBy>Angie</cp:lastModifiedBy>
  <dcterms:modified xsi:type="dcterms:W3CDTF">2011-02-16T02:25:26Z</dcterms:modified>
  <cp:revision>10</cp:revision>
  <dc:subject/>
  <dc:title>The History of 1917 Revolution</dc:title>
</cp:coreProperties>
</file>